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B11D-DDB3-45A1-9B7E-7A82C3EE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B0A-6F80-4A7A-ACC6-7A19D916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160C6-5335-4BD0-9C13-42205115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0DECA-2368-495A-9AFC-35F72E50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9D3FB-B292-4643-896B-1207417E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43474-DC75-4004-A6DB-5B07D9FE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6355F-8E90-42C5-89A1-6F45825E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81F09-D0FF-4574-A147-639057DC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6735E-9F57-459E-89D8-DE2384D8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5A52D-FC11-461E-BFD4-D0F9BE74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64210-39FC-4BD9-8BAE-FDB82B8E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7D086-890F-4926-B8D1-8C2278DC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701B-FCD9-48DB-B1D8-8C68B293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2F4B1-0A98-4551-801B-BED4E416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7D126-D7CC-470B-AB36-3C564055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3314E-DB5F-453A-B215-C0554001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1CA33-C2DF-42FF-901B-A9F6A64B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556D4-8428-434C-A659-DA738501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1BF2F-40D7-4A21-8116-3E148C91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BB3DC-D79F-4E89-9131-0E9396D4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CF525-FEA0-49F0-983E-8B91674D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8154B-7F5D-4ACD-8266-A612E5FC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3F8CE-AD5C-4179-AA6A-5F17B5B0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A35-59AD-4368-97B4-8D7018F5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A1C4B-127F-45EE-BEAB-71C3D5C6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33001-9627-4091-A8A8-47848EB2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66CD8-51CE-42B6-B4A7-C04819FF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1E3EE-4859-4AE2-97F1-E86D36B6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285F9-4A87-41D5-86DC-0578ADDC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15A44-A8DF-42F6-A65A-87385895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EDA98-F040-44F4-A0EC-B6C47F92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043EE-F282-49AB-9195-1A21AD75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112C9-A98F-4A60-B3C7-52FB565A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0A2DB-1919-4FD8-8AF8-95AEC110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4BE4-D7EB-43D4-B625-CCB18774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AD334-BB43-4AFE-BF75-A982C395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D7EA1-C380-429E-9A3F-54B2CEB7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78B0E-AFA8-40AB-A731-56FD1AB2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21A64-6EBF-48C5-AFAD-DA13C011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C4938-75FE-46DC-AAA5-CB4E4D3F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FC0AF-127A-4191-B4A8-F16F42B4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13B07-09F4-4C52-95EF-A1B8DABD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3E139-910C-4036-A043-D13DF8D4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46C3F-F288-49D7-815F-EDD0FF27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E6A4C-DF71-45C9-A246-AEC5F81F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2CFB-AE42-4283-AE4D-DD7AF6B3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ED84B-8885-4223-B142-3D5145E3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80A7C-6F33-47A1-8CAA-735D0C6C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7A6C8-2D00-4675-958E-CD903FC7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79462-70FD-47F9-9127-ECD05D1D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2E3A7-C915-4959-A261-9E6FD65D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48635-7F4B-4CED-886E-9F8A3F70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6084F8-54E6-4D2E-9675-38BE6EA6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0AEAFD-73D4-489A-A408-7CA90359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545E0-4EF2-4739-B207-21AFA146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F6612-00E1-4CAD-9E19-58EE557A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647C-E974-4A65-8DAD-F8997E7B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8E51C-4DB1-49AB-9595-07AD761C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5F089-0881-4B9A-BE68-C7F2E905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CB7670-AE19-4DD0-8450-62003A26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B1B15-E3A1-47D4-AD91-DD99904F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7A2022-865A-4751-B603-B1EF117C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5E750F-C5C2-4C24-B94A-D6633C53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83C05-C563-4D3F-BFCF-C358C0CB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DDC78C-6C12-4072-94BA-C89C81ED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0E9FD2-0B9B-4392-9D65-0FD05D36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7498AB-AE3C-44B0-A64E-ADEF445D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480F-2C8A-433B-9DBF-D71FAB00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C79ED2-C5FB-4A69-BA57-8985ABCD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B1E716-FD8C-44F3-A645-55E0D8C1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BA5B45-601E-4B69-ABD8-3A0966CE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0CA8BE-1FB3-42AA-AEC3-D2433D51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F54E8F-1268-44DF-8276-F82EF11E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7E9B78-95E6-4E33-B6FC-9730B480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50C0C6-C946-41D3-B6EC-742FC38B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F81C43-7A7A-4431-8C49-F5F88E22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0343A-DCEC-4AB8-918B-6DBDF3C1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E737DF-2548-486E-BC9B-D0D4AD28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3032-FA83-4C73-830E-757F986C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DF9437-EE23-4DCB-A74D-51422A21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3830E5-0C55-4CE3-BCD1-E6E03FF0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1723DA-5F41-4E27-9F07-0C2DA293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AAF2BB-A30F-4850-9BCE-CC35C064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C09DEE-859C-46F7-A4E4-120859B7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156EFE-A43C-4708-B231-0D1755DA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121212-4478-431F-BF72-59733EE6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0057B-5A86-45B9-B397-C7B90E83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4BA5E9-DF23-4FC0-AA8A-F274CD89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E2A749-C686-48E9-B5B2-4AE9BB5A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35F9-791E-4978-B7E7-41932D73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8E3AE5-0554-4140-BD8A-5B4C8776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D439F8-66FD-49BC-B1D8-B84554F0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514374-F9BD-4CB6-A6D6-570B4B8A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553398-BBAC-4E8F-87A5-B9641F69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5161DA-9949-41F4-8AFC-1C0499C1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AE475A-5E47-4C91-8823-F2BF4827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4A8795-88B0-426B-A31F-6FB445AB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4FDB1C-FC79-4BA5-8F77-F7AAB66A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BE9424-6776-44AA-BFAB-3130DFD5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422A92-38D4-4AFF-BBEC-D26E234A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FE30-685A-48C1-8E1A-76090BE1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1A97A8-66A2-43B8-88D3-4130D880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4EA27A-E2E5-4FCA-9155-6DA212D1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08C875-BB6F-46BB-B9C7-7FA56A20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7645D5-78E2-4F5E-8FF2-16CCA547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F42E8B-5724-43CF-9B2B-7C393B01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0324CB-49E0-46CA-AD73-0460803A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241CCD-6E3B-45CC-8A17-4EB742AF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EC818B-47DB-4247-8A86-066BB8B7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C605C2-B00D-4366-943F-83A4A447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2FA844-E973-4025-B2DB-2020771A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525-9B30-47A0-AEC3-691D1533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E648-D07E-4014-B5C8-B950584B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760AFE-B8C2-4D4A-B605-D1430C10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6B73D9-B7E4-4C1A-832B-DEF398A2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947BB7-0CE3-4E82-9D1E-2B6E1FE6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1FB398-6AA3-488D-A2AA-1770A4E1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6A2827-D115-4DE8-AF72-923691C8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FAF170-F3AD-4CA6-A659-7744D1C9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68F0D9-902E-4972-BAB3-FF2486FF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BB2F2F-E643-4EB5-9A46-4FC183F1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404D65-127C-49F8-9ECA-C1EC234B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C06E2B-FD8B-4289-A2C6-8CAA3D34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3E2C-34C6-46A8-AE45-3B08FC12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9C85C6-57D5-49C4-996D-C60AA310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01A622-84D3-48A6-8532-1435A34C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110D77-8E06-40BC-B5AF-CD516746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ACBA90-A022-42A0-87F8-340070DC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056883-FC40-4884-B76C-90AE1DB2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7A0B2B-C1CD-4EA0-BD2E-17BB80BD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D9D71C-FE2B-4A5F-86D6-ECE3BE51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8B5AA0-BF56-4426-A686-8A7619FB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C0012E-4B4B-4098-BDD5-9D838B7E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943DD1-89ED-4510-80B7-C77A1DC5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C032-6396-45A1-B50F-3BE4C104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EB0A06-443E-4A73-866D-3EF71F77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5C59E3-8BAF-4B28-A568-F2553A1A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849C9C-21FC-4954-81FE-1A79F58A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1C417F-A182-4276-8C18-BC71709C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D62BF1-A77F-4286-A630-51A4E266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4F0810-D4CF-4D5F-ACC6-274B1AA7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7F536E-3E1D-4713-8B7F-8080AF83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C8B3AA-A836-4D88-8039-6A866004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0DDE0B-0B2C-4446-9E32-80DD011E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5EC345-A1C4-4704-9338-511119C0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9300-78CE-4C9F-AE76-ED09FE82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F9DEBB-4D0B-49AA-A20C-81488BDE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E91E51-23F1-40EC-9080-CCF7D61F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F6BCE2-4278-40CE-BA0E-C331CB2B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49ADA4-0AE2-4B3C-9B56-FE4D9DFE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D25DA7-13E4-475E-B951-47379FE7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D77214-418A-4734-8664-9B678D78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B12C4B-525E-4597-999F-E2E91201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1A4730-3847-4A7E-B43B-DCD1141D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A31312-F8C7-4848-B7EF-904FC7B3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0767BC-7545-4ADD-9A1D-CFFE231F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4DF9-B91A-4733-B7D6-20193E91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34E14C-44FD-4518-B17A-2C0BEB76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965941-DD61-4EED-A0A4-D2A85856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F70E13-53E9-4F28-8D6D-9192F501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62402B-6421-4BE8-9335-A8D7189B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01CFF6-FE47-432E-AFE2-C66A9556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393B57-4292-4480-ADB2-BB4B1667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8951B8-2437-4EF2-BF8E-159E2E00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5E1FB5-1346-4FD4-8256-AFC9F234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C1890E-C418-4233-8D35-A5A817F0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8FF2BD-EB5C-404C-96CF-A8C9D925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03472-5687-49D9-8B79-A29D5462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CA6891-B75B-425D-BAC1-B1B087DD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9D492D-DE84-494F-855F-608E8A34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D8B7FE-742F-4262-B317-CE341371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B531A-ECEB-4137-954D-2E8F10BC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C0C3F-A5CE-4CDF-ADF6-BE7D0FDC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EF64B-FE00-49BF-A3BB-E6AB1E39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AB42C-204B-4F6A-B4C6-E7897E09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393-7884-4D1C-A720-FDEB3AF5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04588-6518-4907-9B97-A3F00615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B0734-D8C4-4E7A-9421-44E86E45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66787-6163-45F3-8D01-9F6714A3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6B6ED-6B5F-4051-828F-22F7CA06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BFDFB-F9AD-4EF8-A1E2-EEED4DBC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8AC06-4A40-4DC5-98C7-0A5E10F1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AD0C0-4AAA-47BC-8376-2531C185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F9BC7-6611-4FC5-A6AA-9007994D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4EECD-08CB-44A5-99CE-2C3D1599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113A5-39C4-44F9-B188-4C72049D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286A-00C3-4529-887C-B863F7C0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D26E6-9A92-49CD-A6F1-E6953EAC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1BF9B-B164-4CAD-B470-C6833490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D2EBD-BE88-4872-8E4D-D0165F72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0BCE5-C6C4-4DA6-95DB-31F0D364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1366C-EEB0-4529-8142-8FE98505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9FBDD-EDF6-432E-A03F-1FA9532E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764EA-09F9-4314-861F-0D37650F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9262E-1998-455F-AF58-6629CA46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B6B61-9BEE-40E5-9D99-069B3890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B0BCD-A7DB-49D5-A57C-7016927F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FA37-482F-4C50-AD8D-CDECD5E8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5F9F8-20B9-4A1D-901A-FF6B6FCD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497DF-CBDD-4EB0-9ED0-464AB7FC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631F6-3CA6-4D9F-8C6C-DCA9C58A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8AE16-BB31-4B6B-8F98-1CE7275E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B1C6B-7591-4E0A-BBE7-5A2FC9CC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1284E-0846-41B7-94FA-FDB174F6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A3E83-B40D-48FC-9D79-E851D3C7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55CEA-B1A2-4B73-ACFA-B53CECE3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4AA91-37FC-44F3-B207-7D543540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20736-FF5C-4A93-ADF3-466806F3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7FF6-BB4D-49A9-BC59-F483E38E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0156B-08CB-446B-AB83-3E157E99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DC588-8CE8-4F3C-A2F5-6F8E53E1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AD59D-50BC-4168-A3D2-6357CED1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0638A-1272-4DB3-A048-F10DA449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D90F8-8B72-4CAF-AA7D-34F8C4DD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23692-26C3-4DB9-8D7A-1F568082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978AF-A672-4F39-BEFC-FDF15A6A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E8AD9-1F83-43D5-AAA3-D2249D79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F3032-BD63-4E48-BE69-8881C0B4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1A526-F3D8-4B82-9D0F-99FDDEB6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14B-10BA-4ED5-BF29-40966A64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2F8C8-9A54-44C0-A937-175F3F06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6ABA8-323D-484C-A096-4BB29FDC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78248-F5AF-4B72-BE2D-9B27DE04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61483-4154-4312-A756-BE95D5D1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03E88-6F3F-4F23-9B90-BDAC12D6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58B41-3EA4-4F91-9AB1-FB883107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2DF1C-3098-4DB3-A775-7085EE4A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DB540-C0F3-4E47-98AE-46834AA3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D64C6-AC17-4DF3-834C-61EDC7D7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2C2A4-56E9-4D90-ADC4-FFB5D150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CCC-B87B-4EFB-9418-FA191F71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231AC-1E81-46B2-B317-32B37C4E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E0E10-EE60-447C-AEBA-65D412D3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120CB-C996-4EF9-BF25-558993AD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10F19-2990-4894-A203-6C4B3D31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E3136-6426-4273-9760-DC56B017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9FF15-0CDB-4FB5-92DB-7CF03FB9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6ED03-F7A8-4AC4-9CCF-CCCC4845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4B216-D8B4-45ED-B2F0-2053C36C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A56E0-AE7B-4D46-8718-48BA918A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971CD-3630-4643-BBD2-D4EC20FE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9B8-9A93-4C7D-9CDB-6733A38A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4E56A-FC84-4547-8FDB-F8C5C94D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42062-D3E0-4D99-B48A-E5615A31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2667C-02AF-4619-AE70-0F0B242F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8D778-EEC7-4687-9617-66CF494D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C1DF2-C33F-41AF-91C3-AC7B7D2F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4B2A9-65D4-4DE4-A416-74BE95C0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1DD8C-45AE-4990-9F2B-9D2FAD80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A41A6-4FFF-4F10-AA22-3A135110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09ED6-15EB-424B-A7C0-404EC310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B1C5A-0AEC-41D8-BA83-077FDA50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3D0B-5678-41FC-B986-D18256C65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37F2-4A9D-47CA-A9C2-4EC2B7364F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A81D-DECC-4B95-984B-37751111D7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C380-9479-40B6-A46C-AD3EF6921B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E0AD-443E-4895-AB7A-F87A92918F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817F-DFE4-4504-B00F-AF3DCC324B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519B-1A04-4668-A11B-C070A5E150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EDBE-8D0A-4A46-B9A2-99DFA5E47C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4C0F-558E-4437-94A6-965D52C792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1021-FCE9-44F9-ADB9-7996213704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3DCB-7C2B-4B14-ABFB-55AC5DE37A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E342-C635-442D-8978-9AFDAB403D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EF50-60CF-47CE-80CB-3CE6E64E85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5E9F-4CA4-48D1-ADC2-4360C20EE8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585C-A9A3-4A69-B868-D7C88FC736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54E8-DBE9-4FBE-B361-4BD13E5BAF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4B73-D3BA-4D5C-94EE-41D1ECEA36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1035-B90E-4B57-9D3C-DB808A2C2A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6350-3BD0-401F-B519-0C46B1C9F4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B85F-A621-4E97-8800-ED2E16D7EA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BA90-E033-4F49-B501-3164B2619B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4A37-FFB8-4613-B32B-EB7B68DB19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AD8E-5B4E-448F-B928-50EB6AE566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DF15-CAA2-42B1-8B55-451A584AD4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9B5A-DB89-4A24-A063-B906919B12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447F-3E1F-485B-9721-1BF2798353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9ED6-1171-4E48-A302-D1E6B0C54F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3D27-50AA-4665-B844-42EEC71DD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B79E-F73C-460F-896B-71D13433DA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2EB3-991F-4C37-B044-D0D29610B9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C5B7-E497-4F71-B2F6-11126845A1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C981-97AE-4771-AFC8-960DB9F011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BD2C-7359-4246-9F62-9D2D98E400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E4B8-7A64-4A4B-A34A-BCFC18182B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ABED-112D-4AE9-8C2F-59ED2D556F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9FB3-DA42-46DD-BBB7-BC654FF741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AB98-4A84-4245-97D9-FCC3FB8488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67E2-150C-4344-B710-B3AF712BFD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66C2-3302-47AD-8C1C-A687704BC4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0CE6-DC0F-45C5-9D50-54178706DB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63520" y="3166920"/>
            <a:ext cx="86169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200160" y="790560"/>
            <a:ext cx="8743680" cy="60102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187280" y="2492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435640" y="24638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187280" y="4005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5435640" y="39625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187280" y="544500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333360" y="976320"/>
            <a:ext cx="8477280" cy="53132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258920" y="21765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2627280" y="21906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3851280" y="21906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5148360" y="21765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6488280" y="217656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7"/>
          <a:stretch/>
        </p:blipFill>
        <p:spPr>
          <a:xfrm>
            <a:off x="1332000" y="33717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8"/>
          <a:stretch/>
        </p:blipFill>
        <p:spPr>
          <a:xfrm>
            <a:off x="1332000" y="39625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9"/>
          <a:stretch/>
        </p:blipFill>
        <p:spPr>
          <a:xfrm>
            <a:off x="1389240" y="453708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0"/>
          <a:stretch/>
        </p:blipFill>
        <p:spPr>
          <a:xfrm>
            <a:off x="1389240" y="51577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11"/>
          <a:stretch/>
        </p:blipFill>
        <p:spPr>
          <a:xfrm>
            <a:off x="1346040" y="574848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9" name="组合 6148"/>
          <p:cNvGrpSpPr/>
          <p:nvPr/>
        </p:nvGrpSpPr>
        <p:grpSpPr>
          <a:xfrm>
            <a:off x="1219320" y="952560"/>
            <a:ext cx="7048440" cy="5418000"/>
            <a:chOff x="1219320" y="952560"/>
            <a:chExt cx="7048440" cy="5418000"/>
          </a:xfrm>
        </p:grpSpPr>
        <p:pic>
          <p:nvPicPr>
            <p:cNvPr id="1050" name="图片 1" descr=""/>
            <p:cNvPicPr/>
            <p:nvPr/>
          </p:nvPicPr>
          <p:blipFill>
            <a:blip r:embed="rId1"/>
            <a:stretch/>
          </p:blipFill>
          <p:spPr>
            <a:xfrm>
              <a:off x="1219320" y="952560"/>
              <a:ext cx="6705360" cy="541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图片 6147" descr=""/>
            <p:cNvPicPr/>
            <p:nvPr/>
          </p:nvPicPr>
          <p:blipFill>
            <a:blip r:embed="rId2"/>
            <a:stretch/>
          </p:blipFill>
          <p:spPr>
            <a:xfrm>
              <a:off x="1619280" y="1508040"/>
              <a:ext cx="6648480" cy="480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2" name="圆角矩形 6150"/>
          <p:cNvSpPr/>
          <p:nvPr/>
        </p:nvSpPr>
        <p:spPr>
          <a:xfrm>
            <a:off x="3348000" y="1628640"/>
            <a:ext cx="2592360" cy="720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圆角矩形 6155"/>
          <p:cNvSpPr/>
          <p:nvPr/>
        </p:nvSpPr>
        <p:spPr>
          <a:xfrm>
            <a:off x="3348000" y="2565360"/>
            <a:ext cx="4464000" cy="720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圆角矩形 6156"/>
          <p:cNvSpPr/>
          <p:nvPr/>
        </p:nvSpPr>
        <p:spPr>
          <a:xfrm>
            <a:off x="3276720" y="3538440"/>
            <a:ext cx="863640" cy="720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圆角矩形 6165"/>
          <p:cNvSpPr/>
          <p:nvPr/>
        </p:nvSpPr>
        <p:spPr>
          <a:xfrm>
            <a:off x="3276720" y="4508640"/>
            <a:ext cx="3527280" cy="720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圆角矩形 6166"/>
          <p:cNvSpPr/>
          <p:nvPr/>
        </p:nvSpPr>
        <p:spPr>
          <a:xfrm>
            <a:off x="3276720" y="5491080"/>
            <a:ext cx="1800000" cy="720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59:40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